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C13-99AF-4CF5-9D1D-2EF829D6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6F6-1E4E-4382-BF04-5DE7B0E1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C41-3DE8-449F-972C-831C382A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ED5-F497-451D-AEAB-A2DCCAB1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2DC-39FC-440C-8A8C-66E9F43A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EB9-72D6-4906-8EC1-61B982C9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C0D-B34F-43B4-B2ED-221E9F0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1EE-11BD-4869-9156-C4A6E0E6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334-9396-4B20-B23A-55EEB59A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95E-AC2C-4DA2-92D7-A99CE0A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059-B270-4CC1-8AB2-1CECE922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3BF-1473-45C4-9897-622A42A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4BE4-2CF3-46B6-9C33-78850BC08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5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3: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terminamos el repaso para el examen de mañ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con IR o SER en el pretér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orge __________ doctor en Boli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a la playa en el ver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éctor y Martín _________ buenos alum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ú ________ al parque a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¡Nosotros _________ muy buenos amig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8080"/>
                </a:solidFill>
                <a:latin typeface="Arial"/>
              </a:rPr>
              <a:t>A.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 usando el PRETERITO y P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pletaste todas las tareas de a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omaron el bus para llegar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udiaron los verb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Usaste la hoja de estu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Visitaron la playa en el ver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praste todos los materiales escol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Hablaron el español en la cl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write with the correct 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usaro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l map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ud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ofesora enseñó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la lección de gra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estudié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los capítu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rtistas crearo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las pintur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uy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muchachas compraro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los vestid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la t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bailast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la cumb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n tu abu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completó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l ensay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el MAÑ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ia (pais, capital, nacionalidad, ubicac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os (presente, preterito, preterito SER/IR, preterito –CAR, -GAR, -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ombres de Objeto Directo (lo, la, los ,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5:54:42Z</dcterms:created>
  <dc:creator>Helen Zumaeta</dc:creator>
  <dc:description/>
  <dc:language>en-US</dc:language>
  <cp:lastModifiedBy>Helen Zumaeta</cp:lastModifiedBy>
  <dcterms:modified xsi:type="dcterms:W3CDTF">2012-10-25T20:01:17Z</dcterms:modified>
  <cp:revision>4</cp:revision>
  <dc:subject/>
  <dc:title>Slide 1</dc:title>
</cp:coreProperties>
</file>